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3.png" ContentType="image/png"/>
  <Override PartName="/ppt/media/image16.jpeg" ContentType="image/jpeg"/>
  <Override PartName="/ppt/media/image15.png" ContentType="image/png"/>
  <Override PartName="/ppt/media/image14.gif" ContentType="image/gif"/>
  <Override PartName="/ppt/media/image1.wmf" ContentType="image/x-wmf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12.png" ContentType="image/png"/>
  <Override PartName="/ppt/media/image7.wmf" ContentType="image/x-wmf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3C65-7166-4316-8629-9E633722F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1D39-82FD-4DE4-9D6A-F0249F97F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00FA7F-D97B-49E8-948B-89E97C359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CFE64A-8049-4008-96F4-4796B1B42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1428480" y="274320"/>
            <a:ext cx="7257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C74FB1-6878-4F8D-ABA5-C3AAC5E8C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9B5653-5572-4E86-9027-B18A6498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2EF84D-BC3B-4EF7-9C84-61A3F7A77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640693-F25D-4371-939E-FAEA5E155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93A35D-1CBA-468F-8B64-9266F2D70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7E45A2-8818-404B-A2F8-A50F0373C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8B91A2-A1B2-4565-A6EA-61EFCE099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0C3D61-DB73-4D13-AA9F-98D5414C6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4BD9-3758-4274-9A98-5C1944FDD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689584-BCD3-4EA4-9E33-189B3D6AF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EE9998-AE7C-40A4-B20D-A37E18240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13CB57-4AAA-44CF-819E-8B36E3041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4F675F-9F87-43B6-BD4A-6E89C9D76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1428480" y="274320"/>
            <a:ext cx="7257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A8C83E-85BB-414D-948E-6E8FCFD9F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5AD08E-587F-4453-8A56-B8D78F136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0649A1-16FE-4CC8-B2C7-8974455E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5D08CA-686F-422D-9FC9-543F0E18B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F1C56F-2ABA-4A44-BB3A-E7EA973F8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920BAA-DA36-4120-9859-A1C47C791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C287-3CCA-4392-983C-E71946BB1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B987FF-6C4B-43D0-BEAB-83B8B0883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02B572-B1B8-4451-B8C6-E1E71CB9C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09F7C1-2B33-4ADD-8EA6-BFCB16EBE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796B37-06C9-4590-A3AF-8527DBB0B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DFF759-0D6B-4890-9B0F-37551210F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24EB7E-AE80-4391-AF29-47FAF4890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1428480" y="274320"/>
            <a:ext cx="7257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FA7362-A5BD-4FEE-9276-D5075E1B9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013CF5-2FE6-4A75-88E1-534EB62E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96E519-CEB8-43FD-8D71-8239D67B0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D9F9AA-D27F-4F71-9D20-70B8E69AE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C351A-76E3-493A-BAB5-418E73D61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F0250B-DE10-43DA-8FE3-4F15A863F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067354-28AD-4BB3-8EE0-22A5504A2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4BA234-C40F-45DF-AAD3-5BDC5E8A4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2CA199-559A-4813-B0F9-9082BE7F3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77D2F5-83B5-4A4D-990B-344122248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517F34-8A94-4094-B596-C8B67146D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A7890F-4E2A-4B62-B563-6307023CD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318A24-CF10-4B12-8A82-F54CE3EF6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1428480" y="274320"/>
            <a:ext cx="7257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42CAEF-F379-4516-B228-F1CDFC7D3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ABB696-DA22-44E7-A6B5-202E9C3F6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062D6-75CC-4B1E-9B13-311187E8F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2DD2F4-81DA-4670-A9BE-DEC6C3079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2BF46B-D2B3-410B-849E-1197F73E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41EDD4-6F21-4195-996F-4701B45D7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4B3C57-0C52-41DC-869E-1910E0E07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38D49B-43CD-490E-8DC0-2BFDAD592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AEDBA2-A493-49BE-AD08-C44F86034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1E6F9A-B4BF-44C0-A3A1-9A809F15B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ADBFC3-99C1-4AD3-8644-FCBB79B73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5D397B-DBB6-4A23-815D-A433051D7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F0D83E-963D-4623-9891-6EDEE80C5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E7A4F-864B-4094-A185-343166624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1428480" y="274320"/>
            <a:ext cx="7257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E9CF3F-3993-4E09-BA9F-FA9B645B0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B785C5-1021-4CB4-B360-1A20FB700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BB5D0E-8D3A-4621-A682-83DA7733F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AF4809-AF55-4871-84F2-42CBE8BA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07AA0F-75C7-40E0-BDA7-2E729E125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31AB7D-07A0-4FBF-9671-DCD500FEB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1B8854-E522-445F-A2CA-4FC83B71D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54610-E799-4F21-BCED-C7CAAECFC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AEF72-24E1-4E7B-832E-66996EA98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428480" y="274320"/>
            <a:ext cx="7257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D49D1-4F20-47E9-80AB-E226E1995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F155B-299F-4E9B-8C53-5CEA93B25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9A13-06A7-440E-BB09-F94618D5F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65CD0-A863-49D7-86A5-4D2B186D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46074-2E78-4FD5-8A39-C021821F5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72F86-FC8F-4971-8E6E-F42358164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A82DA-9512-4B3E-A539-38666CC57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A8637-A1E2-425D-8BA2-5D1EE59C4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BCB96-0DD8-4F3B-9BB6-F56CAF7FA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39AF2-9A43-44E1-8F97-5E9FE0666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71214-5863-45A4-98C3-9CF1F34B4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EDCA5-FE15-47AB-A05D-BC3CAF260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9D3FB-DEBE-43C6-9CC1-463923117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79BF-8CCE-4D08-8BA9-B346B8F14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428480" y="274320"/>
            <a:ext cx="7257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995C4-FA2B-4491-97D6-D2903CA44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8E031-8017-47CE-8C3B-B0741AD04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7479A-0ADB-4E71-BC73-949D07F5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54FFC-6704-43B5-91FE-F7D251D91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A90E7-E846-4D1F-AE01-64E733345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3BDE8-C270-4A24-A213-40D11AC3A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1D0C1-6C62-41F6-815D-F949BA26E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DE8AD-CEE5-4873-8DF7-F863BD660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D0E3C-E889-4E54-A28F-0C62AFB1F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66D2C-B59D-49B0-A780-F4083B513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C4A8-D2DD-4DAC-AA0B-EB905214B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5A59C-85AA-4E32-A535-6BE6ECC22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19A41-C892-44BF-AE0E-17E54E054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428480" y="274320"/>
            <a:ext cx="7257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D05B6-5494-4A80-8EB2-D9E473F0B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4AC0C-B250-4B2F-9036-A7530830C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1AE1A-79E8-494F-A391-691955DFE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AA5D6-F19A-42AE-8DE8-357873E3D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4CD1C-492A-4021-A492-69B61EC40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F6B2A-CB22-4419-B85B-5C18B1807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60C2A-5A90-4ADE-85B7-3ABB711A8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8C5B7-7F5A-4CF8-8CB6-F771230B0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99AE-87B3-4848-A501-F7E197B0C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0C0A1-CF85-48DE-AC98-F1633E743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4C0BF-81CA-495F-B8AB-27BE1B9DB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FCB4A-6829-4A92-A18B-8A5B359E6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42039-1345-4013-83FD-8F1CB10D9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1428480" y="274320"/>
            <a:ext cx="7257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6D4CE-D575-4C0B-B699-3F9B2152C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1E07D-37DE-454E-BF1B-F19241E4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424A9B-A3B2-4458-9C90-CECA43CA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D9513E-63B3-4A10-A076-1E36A1310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3B09BE-765E-41A7-AFE4-840D40025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D09AA-4F20-455A-B461-18014BF17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28480" y="274320"/>
            <a:ext cx="7257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7A90-73EB-4B45-8E7B-8BD873A04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18A1F-432B-43F6-968C-9E1B60FB0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BCA884-6C46-4D49-B8DF-90468CB08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A5FDC9-BD34-4561-9732-EEEF410BD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67DAE6-4532-461A-83FC-51CEBFF6C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9F97FF-C53C-472E-A420-9344CD923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31DCE3-759D-4708-9D90-3F4E5144B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1428480" y="274320"/>
            <a:ext cx="7257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527685-58F7-42C8-B22F-4295E2AE9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DB1BB6-8D32-41B4-A6CB-09998461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DB1D41-AFCB-425F-B787-EDE298D1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29EDB7-5D06-4D8E-9AE9-BA1C2C01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817B-5DBE-42F6-9348-F68B9FF1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CAB61F-0AAC-481A-ABBD-827DEEE4D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9073D4-7E6B-48F4-9D81-CBADA3B86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02F64F-68F0-4857-98E8-9D3E41F15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F13081-F750-4047-9F21-FA666DBDA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1CD3CE-0F7E-4B47-ABC1-72BAAF6D4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714AF7-2666-4F39-94A0-328E4F349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B12795-8A35-4294-8B32-2BF59D668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3EED7A-10F8-416E-A80A-385F39EC9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1428480" y="274320"/>
            <a:ext cx="7257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3AE6D4-9432-4B20-9D76-AE517E7DE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A40EE6-8593-4976-8464-6BEE31B5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AA89-FA76-4621-A638-70F495F5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30AEBC-F3CB-4F91-AFFC-34FC7FC71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13FAE8-26E7-4E64-AE13-269850B02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A8E144-27D6-4574-864B-49127F2F4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4BFE64-7A7A-4BF8-8E1E-AE844B5BF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470F07-6A2D-45D1-BA0B-0848687AA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058864-7CBB-457F-89F6-018F924A4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64D397-2FEE-4708-AB99-0F6C6FF0A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1C4823-8A76-4C1C-9627-DA0E32659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331509-00CB-4FFB-A696-F3E0CF0A0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DC514A-32F4-4925-A863-285033A61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5987-3EB9-41EF-A573-AB134BD2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1428480" y="274320"/>
            <a:ext cx="7257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D43FCF-640A-4F50-86E3-50F77A8F6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B24DB9-6CC4-4D17-BC2F-197DDFDD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6B7468-9388-4277-B1B5-70334F973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DB38A2-61F7-4748-897A-3A8BD34E1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97CA19-9C07-4760-B1FF-D79FCB56B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500C70-D7AC-4182-8EC9-1CAA884BA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6A09B4-CFDD-47CC-BAC5-DB32E7DBD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B5AD16-E784-4AFA-B5CD-29EA09A7B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6356ED-B8E8-4C89-BF9D-0F2598664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508A8A-3732-4F90-BC65-998DE5AAD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Families and Househol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40669-CAF1-42EA-9EAA-F7CB6CD9CB9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C:\Documents and Settings\khealey\Local Settings\Temporary Internet Files\Content.IE5\8UVL5WBY\MC900435598[1].wmf"/>
          <p:cNvPicPr/>
          <p:nvPr/>
        </p:nvPicPr>
        <p:blipFill>
          <a:blip r:embed="rId2"/>
          <a:stretch/>
        </p:blipFill>
        <p:spPr>
          <a:xfrm>
            <a:off x="214200" y="214200"/>
            <a:ext cx="1000080" cy="12258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C:\Documents and Settings\khealey\Local Settings\Temporary Internet Files\Content.IE5\LQS6O9ZZ\MC910216993[1].png"/>
          <p:cNvPicPr/>
          <p:nvPr/>
        </p:nvPicPr>
        <p:blipFill>
          <a:blip r:embed="rId3"/>
          <a:stretch/>
        </p:blipFill>
        <p:spPr>
          <a:xfrm>
            <a:off x="214200" y="5572080"/>
            <a:ext cx="916200" cy="1000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7" descr="C:\Documents and Settings\khealey\Local Settings\Temporary Internet Files\Content.IE5\8UVL5WBY\MC900435598[1].wmf"/>
          <p:cNvPicPr/>
          <p:nvPr/>
        </p:nvPicPr>
        <p:blipFill>
          <a:blip r:embed="rId2"/>
          <a:stretch/>
        </p:blipFill>
        <p:spPr>
          <a:xfrm>
            <a:off x="214200" y="214200"/>
            <a:ext cx="1000080" cy="122580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8" descr="C:\Documents and Settings\khealey\Local Settings\Temporary Internet Files\Content.IE5\LQS6O9ZZ\MC910216993[1].png"/>
          <p:cNvPicPr/>
          <p:nvPr/>
        </p:nvPicPr>
        <p:blipFill>
          <a:blip r:embed="rId3"/>
          <a:stretch/>
        </p:blipFill>
        <p:spPr>
          <a:xfrm>
            <a:off x="214200" y="5572080"/>
            <a:ext cx="916200" cy="100008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E2A25-39E0-492C-8443-BD8231BFE86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Picture 7" descr="C:\Documents and Settings\khealey\Local Settings\Temporary Internet Files\Content.IE5\8UVL5WBY\MC900435598[1].wmf"/>
          <p:cNvPicPr/>
          <p:nvPr/>
        </p:nvPicPr>
        <p:blipFill>
          <a:blip r:embed="rId2"/>
          <a:stretch/>
        </p:blipFill>
        <p:spPr>
          <a:xfrm>
            <a:off x="214200" y="214200"/>
            <a:ext cx="1000080" cy="122580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8" descr="C:\Documents and Settings\khealey\Local Settings\Temporary Internet Files\Content.IE5\LQS6O9ZZ\MC910216993[1].png"/>
          <p:cNvPicPr/>
          <p:nvPr/>
        </p:nvPicPr>
        <p:blipFill>
          <a:blip r:embed="rId3"/>
          <a:stretch/>
        </p:blipFill>
        <p:spPr>
          <a:xfrm>
            <a:off x="214200" y="5572080"/>
            <a:ext cx="916200" cy="100008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68F6F-39CF-4EC1-9FD0-2B53B28C520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Picture 7" descr="C:\Documents and Settings\khealey\Local Settings\Temporary Internet Files\Content.IE5\8UVL5WBY\MC900435598[1].wmf"/>
          <p:cNvPicPr/>
          <p:nvPr/>
        </p:nvPicPr>
        <p:blipFill>
          <a:blip r:embed="rId2"/>
          <a:stretch/>
        </p:blipFill>
        <p:spPr>
          <a:xfrm>
            <a:off x="214200" y="214200"/>
            <a:ext cx="1000080" cy="122580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8" descr="C:\Documents and Settings\khealey\Local Settings\Temporary Internet Files\Content.IE5\LQS6O9ZZ\MC910216993[1].png"/>
          <p:cNvPicPr/>
          <p:nvPr/>
        </p:nvPicPr>
        <p:blipFill>
          <a:blip r:embed="rId3"/>
          <a:stretch/>
        </p:blipFill>
        <p:spPr>
          <a:xfrm>
            <a:off x="214200" y="5572080"/>
            <a:ext cx="916200" cy="100008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6E856-866B-406D-9DE7-7D8944883BC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7" descr="C:\Documents and Settings\khealey\Local Settings\Temporary Internet Files\Content.IE5\8UVL5WBY\MC900435598[1].wmf"/>
          <p:cNvPicPr/>
          <p:nvPr/>
        </p:nvPicPr>
        <p:blipFill>
          <a:blip r:embed="rId2"/>
          <a:stretch/>
        </p:blipFill>
        <p:spPr>
          <a:xfrm>
            <a:off x="214200" y="214200"/>
            <a:ext cx="1000080" cy="122580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8" descr="C:\Documents and Settings\khealey\Local Settings\Temporary Internet Files\Content.IE5\LQS6O9ZZ\MC910216993[1].png"/>
          <p:cNvPicPr/>
          <p:nvPr/>
        </p:nvPicPr>
        <p:blipFill>
          <a:blip r:embed="rId3"/>
          <a:stretch/>
        </p:blipFill>
        <p:spPr>
          <a:xfrm>
            <a:off x="214200" y="5572080"/>
            <a:ext cx="916200" cy="100008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B05A3-53B2-4E2F-96C7-F9EDE51EDD3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C:\Documents and Settings\khealey\Local Settings\Temporary Internet Files\Content.IE5\8UVL5WBY\MC900435598[1].wmf"/>
          <p:cNvPicPr/>
          <p:nvPr/>
        </p:nvPicPr>
        <p:blipFill>
          <a:blip r:embed="rId2"/>
          <a:stretch/>
        </p:blipFill>
        <p:spPr>
          <a:xfrm>
            <a:off x="214200" y="214200"/>
            <a:ext cx="1000080" cy="1225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C:\Documents and Settings\khealey\Local Settings\Temporary Internet Files\Content.IE5\LQS6O9ZZ\MC910216993[1].png"/>
          <p:cNvPicPr/>
          <p:nvPr/>
        </p:nvPicPr>
        <p:blipFill>
          <a:blip r:embed="rId3"/>
          <a:stretch/>
        </p:blipFill>
        <p:spPr>
          <a:xfrm>
            <a:off x="214200" y="5572080"/>
            <a:ext cx="916200" cy="1000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C:\Documents and Settings\khealey\Local Settings\Temporary Internet Files\Content.IE5\8UVL5WBY\MC900435598[1].wmf"/>
          <p:cNvPicPr/>
          <p:nvPr/>
        </p:nvPicPr>
        <p:blipFill>
          <a:blip r:embed="rId4"/>
          <a:stretch/>
        </p:blipFill>
        <p:spPr>
          <a:xfrm>
            <a:off x="357120" y="285840"/>
            <a:ext cx="831960" cy="10206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The Fami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14007-8EC4-47EF-9B20-9B0745C03AA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7" descr="C:\Documents and Settings\khealey\Local Settings\Temporary Internet Files\Content.IE5\8UVL5WBY\MC900435598[1].wmf"/>
          <p:cNvPicPr/>
          <p:nvPr/>
        </p:nvPicPr>
        <p:blipFill>
          <a:blip r:embed="rId2"/>
          <a:stretch/>
        </p:blipFill>
        <p:spPr>
          <a:xfrm>
            <a:off x="214200" y="214200"/>
            <a:ext cx="1000080" cy="1225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C:\Documents and Settings\khealey\Local Settings\Temporary Internet Files\Content.IE5\LQS6O9ZZ\MC910216993[1].png"/>
          <p:cNvPicPr/>
          <p:nvPr/>
        </p:nvPicPr>
        <p:blipFill>
          <a:blip r:embed="rId3"/>
          <a:stretch/>
        </p:blipFill>
        <p:spPr>
          <a:xfrm>
            <a:off x="214200" y="5572080"/>
            <a:ext cx="916200" cy="100008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AE75F-31D8-45F0-8225-3A38627C309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7" descr="C:\Documents and Settings\khealey\Local Settings\Temporary Internet Files\Content.IE5\8UVL5WBY\MC900435598[1].wmf"/>
          <p:cNvPicPr/>
          <p:nvPr/>
        </p:nvPicPr>
        <p:blipFill>
          <a:blip r:embed="rId2"/>
          <a:stretch/>
        </p:blipFill>
        <p:spPr>
          <a:xfrm>
            <a:off x="214200" y="214200"/>
            <a:ext cx="1000080" cy="1225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C:\Documents and Settings\khealey\Local Settings\Temporary Internet Files\Content.IE5\LQS6O9ZZ\MC910216993[1].png"/>
          <p:cNvPicPr/>
          <p:nvPr/>
        </p:nvPicPr>
        <p:blipFill>
          <a:blip r:embed="rId3"/>
          <a:stretch/>
        </p:blipFill>
        <p:spPr>
          <a:xfrm>
            <a:off x="214200" y="5572080"/>
            <a:ext cx="916200" cy="100008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D5A69-335A-4D68-AE7F-990EF02C766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7" descr="C:\Documents and Settings\khealey\Local Settings\Temporary Internet Files\Content.IE5\8UVL5WBY\MC900435598[1].wmf"/>
          <p:cNvPicPr/>
          <p:nvPr/>
        </p:nvPicPr>
        <p:blipFill>
          <a:blip r:embed="rId2"/>
          <a:stretch/>
        </p:blipFill>
        <p:spPr>
          <a:xfrm>
            <a:off x="214200" y="214200"/>
            <a:ext cx="1000080" cy="1225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C:\Documents and Settings\khealey\Local Settings\Temporary Internet Files\Content.IE5\LQS6O9ZZ\MC910216993[1].png"/>
          <p:cNvPicPr/>
          <p:nvPr/>
        </p:nvPicPr>
        <p:blipFill>
          <a:blip r:embed="rId3"/>
          <a:stretch/>
        </p:blipFill>
        <p:spPr>
          <a:xfrm>
            <a:off x="214200" y="5572080"/>
            <a:ext cx="916200" cy="100008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D7B24-89B0-43B1-9E24-2F28934A40D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7" descr="C:\Documents and Settings\khealey\Local Settings\Temporary Internet Files\Content.IE5\8UVL5WBY\MC900435598[1].wmf"/>
          <p:cNvPicPr/>
          <p:nvPr/>
        </p:nvPicPr>
        <p:blipFill>
          <a:blip r:embed="rId2"/>
          <a:stretch/>
        </p:blipFill>
        <p:spPr>
          <a:xfrm>
            <a:off x="214200" y="214200"/>
            <a:ext cx="1000080" cy="12258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C:\Documents and Settings\khealey\Local Settings\Temporary Internet Files\Content.IE5\LQS6O9ZZ\MC910216993[1].png"/>
          <p:cNvPicPr/>
          <p:nvPr/>
        </p:nvPicPr>
        <p:blipFill>
          <a:blip r:embed="rId3"/>
          <a:stretch/>
        </p:blipFill>
        <p:spPr>
          <a:xfrm>
            <a:off x="214200" y="5572080"/>
            <a:ext cx="916200" cy="100008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4269F-DDD7-4984-8478-32621879183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7" descr="C:\Documents and Settings\khealey\Local Settings\Temporary Internet Files\Content.IE5\8UVL5WBY\MC900435598[1].wmf"/>
          <p:cNvPicPr/>
          <p:nvPr/>
        </p:nvPicPr>
        <p:blipFill>
          <a:blip r:embed="rId2"/>
          <a:stretch/>
        </p:blipFill>
        <p:spPr>
          <a:xfrm>
            <a:off x="214200" y="214200"/>
            <a:ext cx="1000080" cy="12258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8" descr="C:\Documents and Settings\khealey\Local Settings\Temporary Internet Files\Content.IE5\LQS6O9ZZ\MC910216993[1].png"/>
          <p:cNvPicPr/>
          <p:nvPr/>
        </p:nvPicPr>
        <p:blipFill>
          <a:blip r:embed="rId3"/>
          <a:stretch/>
        </p:blipFill>
        <p:spPr>
          <a:xfrm>
            <a:off x="214200" y="5572080"/>
            <a:ext cx="916200" cy="10000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0E681-8C58-4441-ACF5-2D0D0601E88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7" descr="C:\Documents and Settings\khealey\Local Settings\Temporary Internet Files\Content.IE5\8UVL5WBY\MC900435598[1].wmf"/>
          <p:cNvPicPr/>
          <p:nvPr/>
        </p:nvPicPr>
        <p:blipFill>
          <a:blip r:embed="rId2"/>
          <a:stretch/>
        </p:blipFill>
        <p:spPr>
          <a:xfrm>
            <a:off x="214200" y="214200"/>
            <a:ext cx="1000080" cy="12258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8" descr="C:\Documents and Settings\khealey\Local Settings\Temporary Internet Files\Content.IE5\LQS6O9ZZ\MC910216993[1].png"/>
          <p:cNvPicPr/>
          <p:nvPr/>
        </p:nvPicPr>
        <p:blipFill>
          <a:blip r:embed="rId3"/>
          <a:stretch/>
        </p:blipFill>
        <p:spPr>
          <a:xfrm>
            <a:off x="214200" y="5572080"/>
            <a:ext cx="916200" cy="100008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0CFD6-094A-4004-9F8E-F1E37D3FCCF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7" descr="C:\Documents and Settings\khealey\Local Settings\Temporary Internet Files\Content.IE5\8UVL5WBY\MC900435598[1].wmf"/>
          <p:cNvPicPr/>
          <p:nvPr/>
        </p:nvPicPr>
        <p:blipFill>
          <a:blip r:embed="rId2"/>
          <a:stretch/>
        </p:blipFill>
        <p:spPr>
          <a:xfrm>
            <a:off x="214200" y="214200"/>
            <a:ext cx="1000080" cy="12258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8" descr="C:\Documents and Settings\khealey\Local Settings\Temporary Internet Files\Content.IE5\LQS6O9ZZ\MC910216993[1].png"/>
          <p:cNvPicPr/>
          <p:nvPr/>
        </p:nvPicPr>
        <p:blipFill>
          <a:blip r:embed="rId3"/>
          <a:stretch/>
        </p:blipFill>
        <p:spPr>
          <a:xfrm>
            <a:off x="214200" y="5572080"/>
            <a:ext cx="916200" cy="100008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54588-E9A7-4503-93B3-179DD37C6B7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png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en.wikipedia.org/wiki/File:1856crnl.gif" TargetMode="External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D:/2625%20GCSE/GCSE%20resources/Family/Slide%20shows/Family%20functions.ppt" TargetMode="External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entury Gothic"/>
              </a:rPr>
              <a:t>Families and household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entury Gothic"/>
              </a:rPr>
              <a:t>The Perfect Fit?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81" name="Picture 4" descr="MCj04395980000[1]"/>
          <p:cNvPicPr/>
          <p:nvPr/>
        </p:nvPicPr>
        <p:blipFill>
          <a:blip r:embed="rId1"/>
          <a:stretch/>
        </p:blipFill>
        <p:spPr>
          <a:xfrm>
            <a:off x="3348000" y="2133720"/>
            <a:ext cx="2094120" cy="1823760"/>
          </a:xfrm>
          <a:prstGeom prst="rect">
            <a:avLst/>
          </a:prstGeom>
          <a:ln w="0">
            <a:noFill/>
          </a:ln>
        </p:spPr>
      </p:pic>
      <p:sp>
        <p:nvSpPr>
          <p:cNvPr id="582" name="Line 6"/>
          <p:cNvSpPr/>
          <p:nvPr/>
        </p:nvSpPr>
        <p:spPr>
          <a:xfrm flipV="1">
            <a:off x="5076720" y="1915920"/>
            <a:ext cx="115092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11"/>
          <p:cNvSpPr/>
          <p:nvPr/>
        </p:nvSpPr>
        <p:spPr>
          <a:xfrm>
            <a:off x="4427640" y="3789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12"/>
          <p:cNvSpPr/>
          <p:nvPr/>
        </p:nvSpPr>
        <p:spPr>
          <a:xfrm flipH="1" flipV="1">
            <a:off x="2626920" y="1988640"/>
            <a:ext cx="1079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13"/>
          <p:cNvSpPr/>
          <p:nvPr/>
        </p:nvSpPr>
        <p:spPr>
          <a:xfrm>
            <a:off x="611280" y="1413000"/>
            <a:ext cx="23050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k and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14"/>
          <p:cNvSpPr/>
          <p:nvPr/>
        </p:nvSpPr>
        <p:spPr>
          <a:xfrm>
            <a:off x="6372360" y="1268280"/>
            <a:ext cx="2520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tus and family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15"/>
          <p:cNvSpPr/>
          <p:nvPr/>
        </p:nvSpPr>
        <p:spPr>
          <a:xfrm>
            <a:off x="3203640" y="4508640"/>
            <a:ext cx="2305080" cy="50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jugal b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entury Gothic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entury Gothic"/>
              </a:rPr>
              <a:t>Dean and Jayne are moving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page 75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Gothic"/>
              </a:rPr>
              <a:t>What is the stereotypical family?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Family house-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Family car-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Family ticket-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This image is used in advertising and is called the CEREAL PACKET FAMILY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Gothic"/>
              </a:rPr>
              <a:t>How has the nuclear family changed?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Although 7 out of 10 families are headed by a married or cohabiting couple, they are a bit different to the traditional nuclear family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If this family contains children, they are called a NEO-CONVENTIONAL FAMILY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In other words, they are like a ‘conventional’ family, but an upgraded version!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entury Gothic"/>
              </a:rPr>
              <a:t>So what has changed?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entury Gothic"/>
              </a:rPr>
              <a:t>Neo-Conventional Familie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97" name="Picture 4" descr="j0431615"/>
          <p:cNvPicPr/>
          <p:nvPr/>
        </p:nvPicPr>
        <p:blipFill>
          <a:blip r:embed="rId1"/>
          <a:stretch/>
        </p:blipFill>
        <p:spPr>
          <a:xfrm>
            <a:off x="3780000" y="2924280"/>
            <a:ext cx="1419120" cy="1419120"/>
          </a:xfrm>
          <a:prstGeom prst="rect">
            <a:avLst/>
          </a:prstGeom>
          <a:ln w="0">
            <a:noFill/>
          </a:ln>
        </p:spPr>
      </p:pic>
      <p:sp>
        <p:nvSpPr>
          <p:cNvPr id="598" name="Line 6"/>
          <p:cNvSpPr/>
          <p:nvPr/>
        </p:nvSpPr>
        <p:spPr>
          <a:xfrm flipH="1" flipV="1">
            <a:off x="3203640" y="2349000"/>
            <a:ext cx="792000" cy="862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7"/>
          <p:cNvSpPr/>
          <p:nvPr/>
        </p:nvSpPr>
        <p:spPr>
          <a:xfrm>
            <a:off x="4572000" y="400536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8"/>
          <p:cNvSpPr/>
          <p:nvPr/>
        </p:nvSpPr>
        <p:spPr>
          <a:xfrm flipV="1">
            <a:off x="5003640" y="2349000"/>
            <a:ext cx="93672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9"/>
          <p:cNvSpPr/>
          <p:nvPr/>
        </p:nvSpPr>
        <p:spPr>
          <a:xfrm>
            <a:off x="468360" y="1628640"/>
            <a:ext cx="2879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ual-breadwinner famil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10"/>
          <p:cNvSpPr/>
          <p:nvPr/>
        </p:nvSpPr>
        <p:spPr>
          <a:xfrm>
            <a:off x="6156360" y="1484280"/>
            <a:ext cx="23050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11"/>
          <p:cNvSpPr/>
          <p:nvPr/>
        </p:nvSpPr>
        <p:spPr>
          <a:xfrm>
            <a:off x="3419640" y="4941720"/>
            <a:ext cx="2304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hab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entury Gothic"/>
              </a:rPr>
              <a:t>Marriage and divorce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Divorce means the legal ending of a marriage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Separation means the couple have chosen to live separate lives, but the marriage isn’t legally over.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A marriage is joining two people together in a legal and usually a RELIGIOUS ceremony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entury Gothic"/>
              </a:rPr>
              <a:t>Divorce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Until the last 30/40 years, divorce was viewed as having a stigma attached to it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It was very uncommon, and women were often the ones who came out worst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A divorced woman would usually lose her home, her status and maybe even her children and job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8" name=""/>
          <p:cNvGraphicFramePr/>
          <p:nvPr/>
        </p:nvGraphicFramePr>
        <p:xfrm>
          <a:off x="1116000" y="620640"/>
          <a:ext cx="6840720" cy="5559480"/>
        </p:xfrm>
        <a:graphic>
          <a:graphicData uri="http://schemas.openxmlformats.org/drawingml/2006/table">
            <a:tbl>
              <a:tblPr/>
              <a:tblGrid>
                <a:gridCol w="1709640"/>
                <a:gridCol w="1711440"/>
                <a:gridCol w="1709640"/>
                <a:gridCol w="17100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Divor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First marriag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remarriag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9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2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5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55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9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5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8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6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9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11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91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0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9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44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95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29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9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7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82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4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9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81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6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4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9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9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2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33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9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74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92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34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9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61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77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33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9" name="Object 4"/>
          <p:cNvGraphicFramePr/>
          <p:nvPr/>
        </p:nvGraphicFramePr>
        <p:xfrm>
          <a:off x="1116000" y="333360"/>
          <a:ext cx="4824360" cy="3478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33360"/>
                    <a:ext cx="4824360" cy="34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A family i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A household i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Picture 2" descr="C:\Documents and Settings\khealey\Local Settings\Temporary Internet Files\Content.IE5\9XJV4SDT\MC900347201[1].wmf"/>
          <p:cNvPicPr/>
          <p:nvPr/>
        </p:nvPicPr>
        <p:blipFill>
          <a:blip r:embed="rId1"/>
          <a:stretch/>
        </p:blipFill>
        <p:spPr>
          <a:xfrm>
            <a:off x="4000680" y="2928960"/>
            <a:ext cx="768240" cy="760320"/>
          </a:xfrm>
          <a:prstGeom prst="rect">
            <a:avLst/>
          </a:prstGeom>
          <a:ln w="0">
            <a:noFill/>
          </a:ln>
        </p:spPr>
      </p:pic>
      <p:sp>
        <p:nvSpPr>
          <p:cNvPr id="612" name="Straight Connector 3"/>
          <p:cNvSpPr/>
          <p:nvPr/>
        </p:nvSpPr>
        <p:spPr>
          <a:xfrm>
            <a:off x="3714840" y="2786040"/>
            <a:ext cx="1357200" cy="1143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Straight Connector 4"/>
          <p:cNvSpPr/>
          <p:nvPr/>
        </p:nvSpPr>
        <p:spPr>
          <a:xfrm flipV="1">
            <a:off x="3785400" y="2714400"/>
            <a:ext cx="1143000" cy="1143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Picture 3" descr="C:\Program Files\Microsoft Office\MEDIA\CAGCAT10\j0300840.wmf"/>
          <p:cNvPicPr/>
          <p:nvPr/>
        </p:nvPicPr>
        <p:blipFill>
          <a:blip r:embed="rId2"/>
          <a:stretch/>
        </p:blipFill>
        <p:spPr>
          <a:xfrm>
            <a:off x="3643200" y="214200"/>
            <a:ext cx="992160" cy="83664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4" descr="C:\Documents and Settings\khealey\Local Settings\Temporary Internet Files\Content.IE5\9XJV4SDT\MC900410561[1].wmf"/>
          <p:cNvPicPr/>
          <p:nvPr/>
        </p:nvPicPr>
        <p:blipFill>
          <a:blip r:embed="rId3"/>
          <a:stretch/>
        </p:blipFill>
        <p:spPr>
          <a:xfrm>
            <a:off x="3857760" y="5572080"/>
            <a:ext cx="896760" cy="88128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5" descr="C:\Documents and Settings\khealey\Local Settings\Temporary Internet Files\Content.IE5\1LKWT6ZY\MC900434848[1].png"/>
          <p:cNvPicPr/>
          <p:nvPr/>
        </p:nvPicPr>
        <p:blipFill>
          <a:blip r:embed="rId4"/>
          <a:stretch/>
        </p:blipFill>
        <p:spPr>
          <a:xfrm>
            <a:off x="7643880" y="278604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6" descr="C:\Program Files\Microsoft Office\MEDIA\CAGCAT10\j0195384.wmf"/>
          <p:cNvPicPr/>
          <p:nvPr/>
        </p:nvPicPr>
        <p:blipFill>
          <a:blip r:embed="rId5"/>
          <a:stretch/>
        </p:blipFill>
        <p:spPr>
          <a:xfrm>
            <a:off x="500040" y="2928960"/>
            <a:ext cx="828720" cy="844560"/>
          </a:xfrm>
          <a:prstGeom prst="rect">
            <a:avLst/>
          </a:prstGeom>
          <a:ln w="0">
            <a:noFill/>
          </a:ln>
        </p:spPr>
      </p:pic>
      <p:sp>
        <p:nvSpPr>
          <p:cNvPr id="618" name="Straight Connector 13"/>
          <p:cNvSpPr/>
          <p:nvPr/>
        </p:nvSpPr>
        <p:spPr>
          <a:xfrm>
            <a:off x="4139640" y="1050840"/>
            <a:ext cx="74520" cy="1735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Straight Connector 14"/>
          <p:cNvSpPr/>
          <p:nvPr/>
        </p:nvSpPr>
        <p:spPr>
          <a:xfrm>
            <a:off x="4286160" y="3643200"/>
            <a:ext cx="74880" cy="1735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Straight Connector 15"/>
          <p:cNvSpPr/>
          <p:nvPr/>
        </p:nvSpPr>
        <p:spPr>
          <a:xfrm flipH="1">
            <a:off x="5003280" y="3428280"/>
            <a:ext cx="2426040" cy="20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Straight Connector 17"/>
          <p:cNvSpPr/>
          <p:nvPr/>
        </p:nvSpPr>
        <p:spPr>
          <a:xfrm flipH="1">
            <a:off x="1500120" y="3428280"/>
            <a:ext cx="2425680" cy="20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Box 18"/>
          <p:cNvSpPr/>
          <p:nvPr/>
        </p:nvSpPr>
        <p:spPr>
          <a:xfrm>
            <a:off x="5572080" y="285840"/>
            <a:ext cx="32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y are there more divorces now than 50 years ag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entury Gothic"/>
              </a:rPr>
              <a:t>Empty shell marriage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Gothic"/>
              </a:rPr>
              <a:t>Why are there more divorces now than 50 years ago?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Page 81- questions ‘check your understanding’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What are the consequences of an increased number of divorces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8" name="Line 4"/>
          <p:cNvSpPr/>
          <p:nvPr/>
        </p:nvSpPr>
        <p:spPr>
          <a:xfrm>
            <a:off x="2987640" y="1628640"/>
            <a:ext cx="0" cy="45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5"/>
          <p:cNvSpPr/>
          <p:nvPr/>
        </p:nvSpPr>
        <p:spPr>
          <a:xfrm>
            <a:off x="6084720" y="1628640"/>
            <a:ext cx="0" cy="446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6"/>
          <p:cNvSpPr/>
          <p:nvPr/>
        </p:nvSpPr>
        <p:spPr>
          <a:xfrm>
            <a:off x="755640" y="2297160"/>
            <a:ext cx="35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1" name=""/>
          <p:cNvGraphicFramePr/>
          <p:nvPr/>
        </p:nvGraphicFramePr>
        <p:xfrm>
          <a:off x="457200" y="549360"/>
          <a:ext cx="8229600" cy="35290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They may  have the best of both worlds as they are now attached to two families and two sets of birthday pres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More remarriages: divorced men are more likely to remarry that divorced women –perhaps they have more to gain from being married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More cohabiting relationships: 34% of divorced men and 24% of divorced women are cohabi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n increase in lone parent families or shared parent famil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Keeping in contact with the parent they are not living wi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More decisions about how to divide property and possessio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djusting to a new set of relationships especially in a reconstituted fami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n increase in the number of reconstituted families. Most children stay with their mother if she remarri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Children living with one parent by keeping in regular contact with the othe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Financially: usually having to manage with less money coming into the hom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Emotionally: either a change for the better or a stressful change of circumstan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Having to agree on who will care for children and where they will l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2" name="Text Box 126"/>
          <p:cNvSpPr/>
          <p:nvPr/>
        </p:nvSpPr>
        <p:spPr>
          <a:xfrm>
            <a:off x="684360" y="4365720"/>
            <a:ext cx="77752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You need to have three columns drawn out on your pa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sequences for husbands and w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. Consequences for the family in gen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. Consequences for children specif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entury Gothic"/>
              </a:rPr>
              <a:t>Conjugal Role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634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How far have conjugal roles really changed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In the 1970s, the sociologist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Ann Oakley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claimed that families were becoming more SYMMETRICA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entury Gothic"/>
              </a:rPr>
              <a:t>Negative views of the family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Marxists: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Feminists: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1. Statistics/fact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2. Why do males commit domestic abuse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3. Why do victims return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4. Why is it rarely reported to police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entury Gothic"/>
              </a:rPr>
              <a:t>Children  in familie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4" name=""/>
          <p:cNvGraphicFramePr/>
          <p:nvPr/>
        </p:nvGraphicFramePr>
        <p:xfrm>
          <a:off x="714240" y="571680"/>
          <a:ext cx="7429680" cy="5429160"/>
        </p:xfrm>
        <a:graphic>
          <a:graphicData uri="http://schemas.openxmlformats.org/drawingml/2006/table">
            <a:tbl>
              <a:tblPr/>
              <a:tblGrid>
                <a:gridCol w="2476800"/>
                <a:gridCol w="2476440"/>
                <a:gridCol w="2476440"/>
              </a:tblGrid>
              <a:tr h="6775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6796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3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3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entury Gothic"/>
              </a:rPr>
              <a:t>Old people in familie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46" name="Picture 2" descr=""/>
          <p:cNvPicPr/>
          <p:nvPr/>
        </p:nvPicPr>
        <p:blipFill>
          <a:blip r:embed="rId1"/>
          <a:srcRect l="10936" t="27781" r="68944" b="5925"/>
          <a:stretch/>
        </p:blipFill>
        <p:spPr>
          <a:xfrm>
            <a:off x="2214720" y="563400"/>
            <a:ext cx="2857320" cy="529452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5" descr="http://www.victoriana.com/animate/ladyz.gif"/>
          <p:cNvPicPr/>
          <p:nvPr/>
        </p:nvPicPr>
        <p:blipFill>
          <a:blip r:embed="rId2"/>
          <a:stretch/>
        </p:blipFill>
        <p:spPr>
          <a:xfrm>
            <a:off x="6215040" y="2714760"/>
            <a:ext cx="1476360" cy="2190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2" descr="http://upload.wikimedia.org/wikipedia/commons/thumb/e/e5/1856crnl.gif/250px-1856crnl.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28880" y="1120680"/>
            <a:ext cx="5157720" cy="4951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2" descr="Deformed by Corset - Vintage Book Page Art Print"/>
          <p:cNvPicPr/>
          <p:nvPr/>
        </p:nvPicPr>
        <p:blipFill>
          <a:blip r:embed="rId2"/>
          <a:stretch/>
        </p:blipFill>
        <p:spPr>
          <a:xfrm>
            <a:off x="1857240" y="343080"/>
            <a:ext cx="5429520" cy="651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entury Gothic"/>
              </a:rPr>
              <a:t>Alternatives to the family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entury Gothic"/>
              </a:rPr>
              <a:t>Changes made by the Coalition governmen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5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entury Gothic"/>
              </a:rPr>
              <a:t>Communal Living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Advantages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62" name="" descr=""/>
          <p:cNvPicPr/>
          <p:nvPr/>
        </p:nvPicPr>
        <p:blipFill>
          <a:blip r:embed="rId1"/>
          <a:stretch/>
        </p:blipFill>
        <p:spPr>
          <a:xfrm>
            <a:off x="4644720" y="2174760"/>
            <a:ext cx="4041720" cy="395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entury Gothic"/>
              </a:rPr>
              <a:t>Social research and familie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entury Gothic"/>
              </a:rPr>
              <a:t>Functions of the family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Century Gothic"/>
                <a:hlinkClick r:id="rId1"/>
              </a:rPr>
              <a:t>Functions of the family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entury Gothic"/>
              </a:rPr>
              <a:t>The Nuclear Family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entury Gothic"/>
              </a:rPr>
              <a:t>Traditional conjugal role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70" name="Picture 4" descr="j0431615"/>
          <p:cNvPicPr/>
          <p:nvPr/>
        </p:nvPicPr>
        <p:blipFill>
          <a:blip r:embed="rId1"/>
          <a:stretch/>
        </p:blipFill>
        <p:spPr>
          <a:xfrm>
            <a:off x="3657600" y="294804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571" name="Line 7"/>
          <p:cNvSpPr/>
          <p:nvPr/>
        </p:nvSpPr>
        <p:spPr>
          <a:xfrm flipV="1">
            <a:off x="5364000" y="2852280"/>
            <a:ext cx="100836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8"/>
          <p:cNvSpPr/>
          <p:nvPr/>
        </p:nvSpPr>
        <p:spPr>
          <a:xfrm flipH="1">
            <a:off x="2410920" y="4581360"/>
            <a:ext cx="1297080" cy="79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9"/>
          <p:cNvSpPr/>
          <p:nvPr/>
        </p:nvSpPr>
        <p:spPr>
          <a:xfrm>
            <a:off x="6300720" y="1700280"/>
            <a:ext cx="2592360" cy="10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0"/>
          <p:cNvSpPr/>
          <p:nvPr/>
        </p:nvSpPr>
        <p:spPr>
          <a:xfrm>
            <a:off x="395280" y="4941720"/>
            <a:ext cx="2016000" cy="1366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4" descr=""/>
          <p:cNvPicPr/>
          <p:nvPr/>
        </p:nvPicPr>
        <p:blipFill>
          <a:blip r:embed="rId1"/>
          <a:stretch/>
        </p:blipFill>
        <p:spPr>
          <a:xfrm>
            <a:off x="1908000" y="333360"/>
            <a:ext cx="5473800" cy="6191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Gothic"/>
              </a:rPr>
              <a:t>Is the nuclear family the ‘perfect fit’?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Nowadays, many of us will move away from our parents for jobs and education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We are also less likely to live with our families when become elderly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So FUNCTIONALIST SOCIOLOGISTS believe that the nuclear family is the perfect fit for our modern, industrial society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entury Gothic"/>
              </a:rPr>
              <a:t>So what benefits does the nuclear family offer?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18:37:40Z</dcterms:created>
  <dc:creator>Sociology Staff</dc:creator>
  <dc:description/>
  <dc:language>en-US</dc:language>
  <cp:lastModifiedBy>Sociology</cp:lastModifiedBy>
  <dcterms:modified xsi:type="dcterms:W3CDTF">2020-03-17T15:44:55Z</dcterms:modified>
  <cp:revision>99</cp:revision>
  <dc:subject/>
  <dc:title>The Nuclear Family</dc:title>
</cp:coreProperties>
</file>