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6.jpeg" ContentType="image/jpeg"/>
  <Override PartName="/ppt/media/image15.png" ContentType="image/png"/>
  <Override PartName="/ppt/media/image14.gif" ContentType="image/gif"/>
  <Override PartName="/ppt/media/image1.wmf" ContentType="image/x-wmf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12.png" ContentType="image/png"/>
  <Override PartName="/ppt/media/image7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E839-64DD-4A7F-8D2C-4B4E62F0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9D47-A452-4FFE-B597-0253D683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07F82-3A6F-4A10-A780-48C76F36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E5048-8893-4EE1-8664-7FB13838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44747-58E1-42BF-84B5-784E8366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8E8C2-C2DE-4FFB-8C4C-33D64965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75B93-8702-448E-92C9-060CE81D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BF9E9-29ED-4ECD-B922-82EC46FF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29700-C93C-46FF-9A9E-CD65B8E2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E1E7A-DFC7-4502-BB3A-8BEAEA66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20AF0-A72E-40E2-B673-3F152E664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4F3F9-D493-4F4C-9CCB-A8D465F0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8F5E-F5C3-46FE-95CB-A3D51571A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4C378-165B-4234-82E8-FFACA10A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6A1E5-1AF3-43BF-B934-1190F5AA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3C6F9-6392-47E8-A88C-C51DB2A7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68D01-CC56-44D1-8257-E65BADBE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05E95-0E99-4FC4-B22C-5B05A802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5A736-A9AC-412E-A7C7-AF43E222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43A9A-C5BA-4376-B71C-8CC87ADB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2F752-E3FE-4B0E-9EB3-328056BC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55174-61A4-41E1-B2C4-FC37DF38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7F907-9E4B-4F7A-B0B8-D4F6E421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B37A-E050-4E84-8C98-50E92056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63EE4-7D21-47D3-8746-3CF13005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2A9D1-7BB8-4348-A808-62C8FB15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FABF3-E9CC-4896-8B97-15FBF8F4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072F4-AC9B-4620-9716-770166EB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E660C-C634-4918-9C19-F30D83F9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15750-7968-4DA8-AC9E-60D4E54E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2C9AD-855F-4066-8477-BC390942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95023-2F27-4414-B047-D6C8D1E4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5BA8E-2037-4DFD-9019-B4C7BFA5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4C2E4-B535-410D-830F-FE61C22F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41AE-5923-4281-9FB0-9FE995E9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2E554-BAFE-4AD6-9EBF-1CE66143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F28EE-60A7-4BD0-B041-B6F63A8F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A753A-0170-4145-A7C2-1A53A0F4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B655A-E354-49E3-A0FC-23C902DD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61B07-88AD-4798-9DC6-1B9FD212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DFF9F-34FC-4308-A731-0FCA6025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3F398-730D-44E6-9416-CFEB448E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F98CC-DCDF-4AEE-8E1F-CBB176AB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07802-5C39-4D09-A98D-C51FDE8D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96DB2-5D0F-4293-A635-23D807C8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366A-4F58-4C16-9AF2-F58E337E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069DD-37F2-4CDE-AF45-51C13E1C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93367-36BD-4382-ACB9-DE9F455D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6FFE2-C50C-445A-8145-8859BCF2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814CF-4BEC-45C1-B684-458ED471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2FBB9-A64A-45B6-8C5F-887F1B20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FB8F6B-462F-4015-BFA9-79F184BC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B00757-51EE-4D16-923B-6BC8517E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D60A7C-EB76-44EC-B162-6F8E0F6A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F71808-80C0-4A98-A144-D83214D0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5F4A89-4555-404A-9E0B-A5362FE7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B7D3-47CF-4DA4-89D8-9EB75D41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712D0C-252F-4004-98C3-2BDDD8C7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087C9B-0CDC-4957-B8FC-A1870A6D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F5E31C-A35E-43E3-8C10-690E5E72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24D9EB-15A9-47CF-9FC2-09C8D42E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B1A4A5-AE36-44A2-A6D6-00320236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6F2973-3E63-4E1E-9EF3-7B6D4903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C737F0-84F7-4BC6-B6D7-138E950E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CACE-B55C-418B-9533-F27AFBF7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6209-8E44-4474-BD22-BF7FB48D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D6D6-2251-41D4-9043-06DD0DA0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23E3-1F37-455E-A78C-7212BF03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3977-3BF4-421B-B8BD-1DCE5610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C81F-E00B-4D97-9BCE-259B4397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CF1B-DC01-4B4A-BE47-5AE97326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7751-46D8-469D-82D1-C87AE497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24CB-E2C1-4E25-89C6-2AC90A8C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88BE-DA51-42DE-B9B0-229AF260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1FE63-B915-48A6-879C-41A0D4DA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0BDA1-3E55-486F-8668-DB43F14D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7D5FC-0262-46C4-9C4D-52234118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39609-0945-42FA-BCB7-18E49209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A94F3-3D3D-4651-A1CD-371559D6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D482-1185-4CF9-AF6D-8AB36003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B3ECB-79BD-4E64-8F3C-2FF0CB03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CC690-60F9-443C-9B89-68A5D816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FF4D7-F75D-4E7A-953A-64FD0FAF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2771C-03FF-4EAE-9490-B6683DF7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5DD42-7B6B-47C4-A0B4-085296F6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556A2-53D1-4591-88FD-C6BB14A1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6ED31-8EEE-44AD-A7FB-3777B2D9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47E25-B271-4E5E-B448-55D13204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CE72A-AFF5-4849-90DB-7DA1AC91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642DD-B1F1-4BEB-826D-8BCE0CE4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6DFA-EFD6-46FC-BFC9-46626E51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AE300-89C8-4331-A8C1-60882DFB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29CF0-C81A-4386-A029-1F12CAA9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3754E-E890-4957-94F8-CAA45748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1EBA1-22BB-43FC-B34D-DC06A728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19AB1-0BB8-4740-A273-C07F3520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2FF47-731D-439F-95A1-D49DFD2C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2875C-435F-4046-90E0-E4640CF7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92D66-F278-40AB-93F4-E787CA0D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BEAF0-8F26-4126-BAC8-1BFE43B58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F2256-E405-4FA0-BB89-01717FB1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F9EF-CCCE-422B-A6D5-C3B213B5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58F44-46A0-45D5-9A9C-2B806BE6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BDBD8-6F8E-4DFC-A76E-D104E88A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04420-C58E-42E3-855E-B133FA20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67415-F957-42E9-8920-C9EC531B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38855-B83C-43E8-9434-05A3A4CF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0E8B2-2FB5-4F6C-8B13-0A983989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38801-3AB5-4CC8-AB8B-B8BC3C07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0B5CC-CCC1-408E-881B-D045BF20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27880-BE41-4B8E-A0E9-780EF62F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05427-F69D-4FC1-81C6-4CF3C81C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C811-4A29-4831-95A0-FABE1593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D8100-82E6-40D9-8B93-A78F17E9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04662-64F6-4138-9491-72D69977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CDFCE-DF38-4D02-988C-098B59A2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AD19A-6799-45CD-A205-7B984E55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75317-A6E8-4276-97C0-65DADD18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57075-C27B-4B19-99CF-8B862BF5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2F3E7-BC6B-4BC2-AA9A-4FD9FB72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7C752-7EB6-4FA7-89AA-2A53A368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567A5-6392-4E11-812E-6CAB7ADD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AADC8-1EAF-4039-9A90-C0C40873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6AD6-7462-40D2-80F6-3459E72D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9C5A9-CB41-4B9D-A4B2-6EFC2266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20BBC-28F0-43D1-B2BC-3BC24E88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2338D-BE9D-47A3-848A-B463DB3C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D5ABE-4A9B-4CA0-A4E1-8B4CA00B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CB257-8809-41C7-9079-E58F806C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0C752-B8CE-4ADF-B4EC-1704443C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69501-8485-4E43-9817-54CB7BF2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7DE70-4CC8-4946-B787-37D303E5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F0595-08C0-4D16-9E29-A73D2C09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CB169-F89B-428A-A601-70AE659F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9AAB-3CF1-478D-A8AD-FD2B5A56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364C6-8718-45B5-9472-C3221090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D2C28-8177-4978-ACDC-AB88CF3C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B05B4-1DEE-420D-86E1-6CB2CDDC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6AF59-38D5-4115-92F9-9EE903BE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AC2AB-D151-459D-9E6C-703F9F30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C083D-2262-4564-82FF-77F2DED6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B8EF1-5DEA-430C-8B96-6DCC8F0E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130A5-876F-4F30-8E89-4FD77CE7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EFD8A-4CAB-48E9-A091-39F29D30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DF89C-E7C7-4365-83B5-60553AEC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DFC0-139B-4C3B-A4FD-97CE0DA3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428480" y="274320"/>
            <a:ext cx="725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CCBA5-0763-481E-8ADF-008AAB69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6FE9B-0B99-40D8-8D0C-FE32ABDC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BB64A-DB9F-4BC7-8AD0-C63A158B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97497-4711-48C1-BD94-1F64C1F1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605F4-5569-4DFE-A3C1-E6104DE7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ECC43-BE87-4D41-AA57-57A783EC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81D0C-3B39-4E86-8608-427B29AE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872B6-FDF3-4B47-85DA-6B7EA9C3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F9CA5-3D42-4437-BCE3-D46F3422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54ACD-8892-43BF-BC11-6176A6E2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Families and Househo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FFDE-6551-4D55-B310-3BB98BAE19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C:\Documents and Settings\khealey\Local Settings\Temporary Internet Files\Content.IE5\8UVL5WBY\MC900435598[1].wmf"/>
          <p:cNvPicPr/>
          <p:nvPr/>
        </p:nvPicPr>
        <p:blipFill>
          <a:blip r:embed="rId2"/>
          <a:stretch/>
        </p:blipFill>
        <p:spPr>
          <a:xfrm>
            <a:off x="214200" y="214200"/>
            <a:ext cx="1000080" cy="12258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C:\Documents and Settings\khealey\Local Settings\Temporary Internet Files\Content.IE5\LQS6O9ZZ\MC910216993[1].png"/>
          <p:cNvPicPr/>
          <p:nvPr/>
        </p:nvPicPr>
        <p:blipFill>
          <a:blip r:embed="rId3"/>
          <a:stretch/>
        </p:blipFill>
        <p:spPr>
          <a:xfrm>
            <a:off x="214200" y="5572080"/>
            <a:ext cx="916200" cy="100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7" descr="C:\Documents and Settings\khealey\Local Settings\Temporary Internet Files\Content.IE5\8UVL5WBY\MC900435598[1].wmf"/>
          <p:cNvPicPr/>
          <p:nvPr/>
        </p:nvPicPr>
        <p:blipFill>
          <a:blip r:embed="rId2"/>
          <a:stretch/>
        </p:blipFill>
        <p:spPr>
          <a:xfrm>
            <a:off x="214200" y="214200"/>
            <a:ext cx="1000080" cy="12258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C:\Documents and Settings\khealey\Local Settings\Temporary Internet Files\Content.IE5\LQS6O9ZZ\MC910216993[1].png"/>
          <p:cNvPicPr/>
          <p:nvPr/>
        </p:nvPicPr>
        <p:blipFill>
          <a:blip r:embed="rId3"/>
          <a:stretch/>
        </p:blipFill>
        <p:spPr>
          <a:xfrm>
            <a:off x="214200" y="5572080"/>
            <a:ext cx="916200" cy="100008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3140-4AB1-491C-95F1-869FC7C5E9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7" descr="C:\Documents and Settings\khealey\Local Settings\Temporary Internet Files\Content.IE5\8UVL5WBY\MC900435598[1].wmf"/>
          <p:cNvPicPr/>
          <p:nvPr/>
        </p:nvPicPr>
        <p:blipFill>
          <a:blip r:embed="rId2"/>
          <a:stretch/>
        </p:blipFill>
        <p:spPr>
          <a:xfrm>
            <a:off x="214200" y="214200"/>
            <a:ext cx="1000080" cy="12258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8" descr="C:\Documents and Settings\khealey\Local Settings\Temporary Internet Files\Content.IE5\LQS6O9ZZ\MC910216993[1].png"/>
          <p:cNvPicPr/>
          <p:nvPr/>
        </p:nvPicPr>
        <p:blipFill>
          <a:blip r:embed="rId3"/>
          <a:stretch/>
        </p:blipFill>
        <p:spPr>
          <a:xfrm>
            <a:off x="214200" y="5572080"/>
            <a:ext cx="916200" cy="100008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F4A6-4731-427D-A1E8-5309351BF6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7" descr="C:\Documents and Settings\khealey\Local Settings\Temporary Internet Files\Content.IE5\8UVL5WBY\MC900435598[1].wmf"/>
          <p:cNvPicPr/>
          <p:nvPr/>
        </p:nvPicPr>
        <p:blipFill>
          <a:blip r:embed="rId2"/>
          <a:stretch/>
        </p:blipFill>
        <p:spPr>
          <a:xfrm>
            <a:off x="214200" y="214200"/>
            <a:ext cx="1000080" cy="12258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C:\Documents and Settings\khealey\Local Settings\Temporary Internet Files\Content.IE5\LQS6O9ZZ\MC910216993[1].png"/>
          <p:cNvPicPr/>
          <p:nvPr/>
        </p:nvPicPr>
        <p:blipFill>
          <a:blip r:embed="rId3"/>
          <a:stretch/>
        </p:blipFill>
        <p:spPr>
          <a:xfrm>
            <a:off x="214200" y="5572080"/>
            <a:ext cx="916200" cy="100008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4556-ADA8-4A58-9729-9F31632A5E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7" descr="C:\Documents and Settings\khealey\Local Settings\Temporary Internet Files\Content.IE5\8UVL5WBY\MC900435598[1].wmf"/>
          <p:cNvPicPr/>
          <p:nvPr/>
        </p:nvPicPr>
        <p:blipFill>
          <a:blip r:embed="rId2"/>
          <a:stretch/>
        </p:blipFill>
        <p:spPr>
          <a:xfrm>
            <a:off x="214200" y="214200"/>
            <a:ext cx="1000080" cy="12258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8" descr="C:\Documents and Settings\khealey\Local Settings\Temporary Internet Files\Content.IE5\LQS6O9ZZ\MC910216993[1].png"/>
          <p:cNvPicPr/>
          <p:nvPr/>
        </p:nvPicPr>
        <p:blipFill>
          <a:blip r:embed="rId3"/>
          <a:stretch/>
        </p:blipFill>
        <p:spPr>
          <a:xfrm>
            <a:off x="214200" y="5572080"/>
            <a:ext cx="916200" cy="100008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3496-C840-4D05-9258-58D817B685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C:\Documents and Settings\khealey\Local Settings\Temporary Internet Files\Content.IE5\8UVL5WBY\MC900435598[1].wmf"/>
          <p:cNvPicPr/>
          <p:nvPr/>
        </p:nvPicPr>
        <p:blipFill>
          <a:blip r:embed="rId2"/>
          <a:stretch/>
        </p:blipFill>
        <p:spPr>
          <a:xfrm>
            <a:off x="214200" y="214200"/>
            <a:ext cx="1000080" cy="1225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C:\Documents and Settings\khealey\Local Settings\Temporary Internet Files\Content.IE5\LQS6O9ZZ\MC910216993[1].png"/>
          <p:cNvPicPr/>
          <p:nvPr/>
        </p:nvPicPr>
        <p:blipFill>
          <a:blip r:embed="rId3"/>
          <a:stretch/>
        </p:blipFill>
        <p:spPr>
          <a:xfrm>
            <a:off x="214200" y="5572080"/>
            <a:ext cx="916200" cy="1000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Documents and Settings\khealey\Local Settings\Temporary Internet Files\Content.IE5\8UVL5WBY\MC900435598[1].wmf"/>
          <p:cNvPicPr/>
          <p:nvPr/>
        </p:nvPicPr>
        <p:blipFill>
          <a:blip r:embed="rId4"/>
          <a:stretch/>
        </p:blipFill>
        <p:spPr>
          <a:xfrm>
            <a:off x="357120" y="285840"/>
            <a:ext cx="831960" cy="1020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he Fami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D109-DAA8-429C-803F-DC04A1241E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C:\Documents and Settings\khealey\Local Settings\Temporary Internet Files\Content.IE5\8UVL5WBY\MC900435598[1].wmf"/>
          <p:cNvPicPr/>
          <p:nvPr/>
        </p:nvPicPr>
        <p:blipFill>
          <a:blip r:embed="rId2"/>
          <a:stretch/>
        </p:blipFill>
        <p:spPr>
          <a:xfrm>
            <a:off x="214200" y="214200"/>
            <a:ext cx="1000080" cy="1225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:\Documents and Settings\khealey\Local Settings\Temporary Internet Files\Content.IE5\LQS6O9ZZ\MC910216993[1].png"/>
          <p:cNvPicPr/>
          <p:nvPr/>
        </p:nvPicPr>
        <p:blipFill>
          <a:blip r:embed="rId3"/>
          <a:stretch/>
        </p:blipFill>
        <p:spPr>
          <a:xfrm>
            <a:off x="214200" y="5572080"/>
            <a:ext cx="916200" cy="1000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E93C-0DF6-4A6F-A6E8-9E05F6C724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C:\Documents and Settings\khealey\Local Settings\Temporary Internet Files\Content.IE5\8UVL5WBY\MC900435598[1].wmf"/>
          <p:cNvPicPr/>
          <p:nvPr/>
        </p:nvPicPr>
        <p:blipFill>
          <a:blip r:embed="rId2"/>
          <a:stretch/>
        </p:blipFill>
        <p:spPr>
          <a:xfrm>
            <a:off x="214200" y="214200"/>
            <a:ext cx="1000080" cy="1225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C:\Documents and Settings\khealey\Local Settings\Temporary Internet Files\Content.IE5\LQS6O9ZZ\MC910216993[1].png"/>
          <p:cNvPicPr/>
          <p:nvPr/>
        </p:nvPicPr>
        <p:blipFill>
          <a:blip r:embed="rId3"/>
          <a:stretch/>
        </p:blipFill>
        <p:spPr>
          <a:xfrm>
            <a:off x="214200" y="5572080"/>
            <a:ext cx="916200" cy="10000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41F1-E644-411F-9C47-67AAC37351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:\Documents and Settings\khealey\Local Settings\Temporary Internet Files\Content.IE5\8UVL5WBY\MC900435598[1].wmf"/>
          <p:cNvPicPr/>
          <p:nvPr/>
        </p:nvPicPr>
        <p:blipFill>
          <a:blip r:embed="rId2"/>
          <a:stretch/>
        </p:blipFill>
        <p:spPr>
          <a:xfrm>
            <a:off x="214200" y="214200"/>
            <a:ext cx="1000080" cy="1225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:\Documents and Settings\khealey\Local Settings\Temporary Internet Files\Content.IE5\LQS6O9ZZ\MC910216993[1].png"/>
          <p:cNvPicPr/>
          <p:nvPr/>
        </p:nvPicPr>
        <p:blipFill>
          <a:blip r:embed="rId3"/>
          <a:stretch/>
        </p:blipFill>
        <p:spPr>
          <a:xfrm>
            <a:off x="214200" y="5572080"/>
            <a:ext cx="916200" cy="10000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A584-1707-48CB-AC9D-EF1DB68B29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7" descr="C:\Documents and Settings\khealey\Local Settings\Temporary Internet Files\Content.IE5\8UVL5WBY\MC900435598[1].wmf"/>
          <p:cNvPicPr/>
          <p:nvPr/>
        </p:nvPicPr>
        <p:blipFill>
          <a:blip r:embed="rId2"/>
          <a:stretch/>
        </p:blipFill>
        <p:spPr>
          <a:xfrm>
            <a:off x="214200" y="214200"/>
            <a:ext cx="1000080" cy="1225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C:\Documents and Settings\khealey\Local Settings\Temporary Internet Files\Content.IE5\LQS6O9ZZ\MC910216993[1].png"/>
          <p:cNvPicPr/>
          <p:nvPr/>
        </p:nvPicPr>
        <p:blipFill>
          <a:blip r:embed="rId3"/>
          <a:stretch/>
        </p:blipFill>
        <p:spPr>
          <a:xfrm>
            <a:off x="214200" y="5572080"/>
            <a:ext cx="916200" cy="10000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6D66-ACB6-461F-80A2-3DA2BDACDA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7" descr="C:\Documents and Settings\khealey\Local Settings\Temporary Internet Files\Content.IE5\8UVL5WBY\MC900435598[1].wmf"/>
          <p:cNvPicPr/>
          <p:nvPr/>
        </p:nvPicPr>
        <p:blipFill>
          <a:blip r:embed="rId2"/>
          <a:stretch/>
        </p:blipFill>
        <p:spPr>
          <a:xfrm>
            <a:off x="214200" y="214200"/>
            <a:ext cx="1000080" cy="12258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C:\Documents and Settings\khealey\Local Settings\Temporary Internet Files\Content.IE5\LQS6O9ZZ\MC910216993[1].png"/>
          <p:cNvPicPr/>
          <p:nvPr/>
        </p:nvPicPr>
        <p:blipFill>
          <a:blip r:embed="rId3"/>
          <a:stretch/>
        </p:blipFill>
        <p:spPr>
          <a:xfrm>
            <a:off x="214200" y="5572080"/>
            <a:ext cx="916200" cy="10000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2EBD-577C-4CC7-9535-0CFDE2ADB1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7" descr="C:\Documents and Settings\khealey\Local Settings\Temporary Internet Files\Content.IE5\8UVL5WBY\MC900435598[1].wmf"/>
          <p:cNvPicPr/>
          <p:nvPr/>
        </p:nvPicPr>
        <p:blipFill>
          <a:blip r:embed="rId2"/>
          <a:stretch/>
        </p:blipFill>
        <p:spPr>
          <a:xfrm>
            <a:off x="214200" y="214200"/>
            <a:ext cx="1000080" cy="12258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C:\Documents and Settings\khealey\Local Settings\Temporary Internet Files\Content.IE5\LQS6O9ZZ\MC910216993[1].png"/>
          <p:cNvPicPr/>
          <p:nvPr/>
        </p:nvPicPr>
        <p:blipFill>
          <a:blip r:embed="rId3"/>
          <a:stretch/>
        </p:blipFill>
        <p:spPr>
          <a:xfrm>
            <a:off x="214200" y="5572080"/>
            <a:ext cx="916200" cy="10000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6C85-B22C-49B8-A7D0-21466C0701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7" descr="C:\Documents and Settings\khealey\Local Settings\Temporary Internet Files\Content.IE5\8UVL5WBY\MC900435598[1].wmf"/>
          <p:cNvPicPr/>
          <p:nvPr/>
        </p:nvPicPr>
        <p:blipFill>
          <a:blip r:embed="rId2"/>
          <a:stretch/>
        </p:blipFill>
        <p:spPr>
          <a:xfrm>
            <a:off x="214200" y="214200"/>
            <a:ext cx="1000080" cy="1225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C:\Documents and Settings\khealey\Local Settings\Temporary Internet Files\Content.IE5\LQS6O9ZZ\MC910216993[1].png"/>
          <p:cNvPicPr/>
          <p:nvPr/>
        </p:nvPicPr>
        <p:blipFill>
          <a:blip r:embed="rId3"/>
          <a:stretch/>
        </p:blipFill>
        <p:spPr>
          <a:xfrm>
            <a:off x="214200" y="5572080"/>
            <a:ext cx="916200" cy="10000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23FD-2F11-4C30-9F69-E2CE5E629A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en.wikipedia.org/wiki/File:1856crnl.gif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D:/2625%20GCSE/GCSE%20resources/Family/Slide%20shows/Family%20functions.ppt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Families and household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The Perfect Fit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81" name="Picture 4" descr="MCj04395980000[1]"/>
          <p:cNvPicPr/>
          <p:nvPr/>
        </p:nvPicPr>
        <p:blipFill>
          <a:blip r:embed="rId1"/>
          <a:stretch/>
        </p:blipFill>
        <p:spPr>
          <a:xfrm>
            <a:off x="3348000" y="2133720"/>
            <a:ext cx="2094120" cy="1823760"/>
          </a:xfrm>
          <a:prstGeom prst="rect">
            <a:avLst/>
          </a:prstGeom>
          <a:ln w="0">
            <a:noFill/>
          </a:ln>
        </p:spPr>
      </p:pic>
      <p:sp>
        <p:nvSpPr>
          <p:cNvPr id="582" name="Line 6"/>
          <p:cNvSpPr/>
          <p:nvPr/>
        </p:nvSpPr>
        <p:spPr>
          <a:xfrm flipV="1">
            <a:off x="5076720" y="1915920"/>
            <a:ext cx="11509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"/>
          <p:cNvSpPr/>
          <p:nvPr/>
        </p:nvSpPr>
        <p:spPr>
          <a:xfrm>
            <a:off x="4427640" y="3789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2"/>
          <p:cNvSpPr/>
          <p:nvPr/>
        </p:nvSpPr>
        <p:spPr>
          <a:xfrm flipH="1" flipV="1">
            <a:off x="2626920" y="1988640"/>
            <a:ext cx="1079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3"/>
          <p:cNvSpPr/>
          <p:nvPr/>
        </p:nvSpPr>
        <p:spPr>
          <a:xfrm>
            <a:off x="611280" y="1413000"/>
            <a:ext cx="230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 an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4"/>
          <p:cNvSpPr/>
          <p:nvPr/>
        </p:nvSpPr>
        <p:spPr>
          <a:xfrm>
            <a:off x="6372360" y="1268280"/>
            <a:ext cx="2520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us and family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5"/>
          <p:cNvSpPr/>
          <p:nvPr/>
        </p:nvSpPr>
        <p:spPr>
          <a:xfrm>
            <a:off x="3203640" y="4508640"/>
            <a:ext cx="230508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jugal b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entury Gothic"/>
              </a:rPr>
              <a:t>Dean and Jayne are moving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page 75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Gothic"/>
              </a:rPr>
              <a:t>What is the stereotypical family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Family house-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Family car-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Family ticket-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This image is used in advertising and is called the CEREAL PACKET FAMIL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Gothic"/>
              </a:rPr>
              <a:t>How has the nuclear family changed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Although 7 out of 10 families are headed by a married or cohabiting couple, they are a bit different to the traditional nuclear family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If this family contains children, they are called a NEO-CONVENTIONAL FAMIL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In other words, they are like a ‘conventional’ family, but an upgraded version!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So what has changed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Neo-Conventional Famili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97" name="Picture 4" descr="j0431615"/>
          <p:cNvPicPr/>
          <p:nvPr/>
        </p:nvPicPr>
        <p:blipFill>
          <a:blip r:embed="rId1"/>
          <a:stretch/>
        </p:blipFill>
        <p:spPr>
          <a:xfrm>
            <a:off x="3780000" y="29242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598" name="Line 6"/>
          <p:cNvSpPr/>
          <p:nvPr/>
        </p:nvSpPr>
        <p:spPr>
          <a:xfrm flipH="1" flipV="1">
            <a:off x="3203640" y="2349000"/>
            <a:ext cx="792000" cy="862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7"/>
          <p:cNvSpPr/>
          <p:nvPr/>
        </p:nvSpPr>
        <p:spPr>
          <a:xfrm>
            <a:off x="4572000" y="4005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8"/>
          <p:cNvSpPr/>
          <p:nvPr/>
        </p:nvSpPr>
        <p:spPr>
          <a:xfrm flipV="1">
            <a:off x="5003640" y="2349000"/>
            <a:ext cx="93672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9"/>
          <p:cNvSpPr/>
          <p:nvPr/>
        </p:nvSpPr>
        <p:spPr>
          <a:xfrm>
            <a:off x="468360" y="1628640"/>
            <a:ext cx="28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ual-breadwinner fami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0"/>
          <p:cNvSpPr/>
          <p:nvPr/>
        </p:nvSpPr>
        <p:spPr>
          <a:xfrm>
            <a:off x="6156360" y="1484280"/>
            <a:ext cx="230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1"/>
          <p:cNvSpPr/>
          <p:nvPr/>
        </p:nvSpPr>
        <p:spPr>
          <a:xfrm>
            <a:off x="3419640" y="4941720"/>
            <a:ext cx="23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hab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Marriage and divorc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Divorce means the legal ending of a marriag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Separation means the couple have chosen to live separate lives, but the marriage isn’t legally over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A marriage is joining two people together in a legal and usually a RELIGIOUS ceremony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Divorc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Until the last 30/40 years, divorce was viewed as having a stigma attached to it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It was very uncommon, and women were often the ones who came out worst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A divorced woman would usually lose her home, her status and maybe even her children and job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8" name=""/>
          <p:cNvGraphicFramePr/>
          <p:nvPr/>
        </p:nvGraphicFramePr>
        <p:xfrm>
          <a:off x="1116000" y="620640"/>
          <a:ext cx="6840720" cy="5559480"/>
        </p:xfrm>
        <a:graphic>
          <a:graphicData uri="http://schemas.openxmlformats.org/drawingml/2006/table">
            <a:tbl>
              <a:tblPr/>
              <a:tblGrid>
                <a:gridCol w="1709640"/>
                <a:gridCol w="1711440"/>
                <a:gridCol w="1709640"/>
                <a:gridCol w="17100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Divo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irst marri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marri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9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2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5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5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9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8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9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11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91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9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44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95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9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7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82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4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9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81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6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4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9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2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33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74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92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34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61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77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33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Object 4"/>
          <p:cNvGraphicFramePr/>
          <p:nvPr/>
        </p:nvGraphicFramePr>
        <p:xfrm>
          <a:off x="1116000" y="333360"/>
          <a:ext cx="4824360" cy="347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33360"/>
                    <a:ext cx="4824360" cy="34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A family i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A household i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C:\Documents and Settings\khealey\Local Settings\Temporary Internet Files\Content.IE5\9XJV4SDT\MC900347201[1].wmf"/>
          <p:cNvPicPr/>
          <p:nvPr/>
        </p:nvPicPr>
        <p:blipFill>
          <a:blip r:embed="rId1"/>
          <a:stretch/>
        </p:blipFill>
        <p:spPr>
          <a:xfrm>
            <a:off x="4000680" y="2928960"/>
            <a:ext cx="768240" cy="760320"/>
          </a:xfrm>
          <a:prstGeom prst="rect">
            <a:avLst/>
          </a:prstGeom>
          <a:ln w="0">
            <a:noFill/>
          </a:ln>
        </p:spPr>
      </p:pic>
      <p:sp>
        <p:nvSpPr>
          <p:cNvPr id="612" name="Straight Connector 3"/>
          <p:cNvSpPr/>
          <p:nvPr/>
        </p:nvSpPr>
        <p:spPr>
          <a:xfrm>
            <a:off x="3714840" y="2786040"/>
            <a:ext cx="135720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traight Connector 4"/>
          <p:cNvSpPr/>
          <p:nvPr/>
        </p:nvSpPr>
        <p:spPr>
          <a:xfrm flipV="1">
            <a:off x="3785400" y="2714400"/>
            <a:ext cx="114300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3" descr="C:\Program Files\Microsoft Office\MEDIA\CAGCAT10\j0300840.wmf"/>
          <p:cNvPicPr/>
          <p:nvPr/>
        </p:nvPicPr>
        <p:blipFill>
          <a:blip r:embed="rId2"/>
          <a:stretch/>
        </p:blipFill>
        <p:spPr>
          <a:xfrm>
            <a:off x="3643200" y="214200"/>
            <a:ext cx="992160" cy="8366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C:\Documents and Settings\khealey\Local Settings\Temporary Internet Files\Content.IE5\9XJV4SDT\MC900410561[1].wmf"/>
          <p:cNvPicPr/>
          <p:nvPr/>
        </p:nvPicPr>
        <p:blipFill>
          <a:blip r:embed="rId3"/>
          <a:stretch/>
        </p:blipFill>
        <p:spPr>
          <a:xfrm>
            <a:off x="3857760" y="5572080"/>
            <a:ext cx="896760" cy="8812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" descr="C:\Documents and Settings\khealey\Local Settings\Temporary Internet Files\Content.IE5\1LKWT6ZY\MC900434848[1].png"/>
          <p:cNvPicPr/>
          <p:nvPr/>
        </p:nvPicPr>
        <p:blipFill>
          <a:blip r:embed="rId4"/>
          <a:stretch/>
        </p:blipFill>
        <p:spPr>
          <a:xfrm>
            <a:off x="7643880" y="278604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C:\Program Files\Microsoft Office\MEDIA\CAGCAT10\j0195384.wmf"/>
          <p:cNvPicPr/>
          <p:nvPr/>
        </p:nvPicPr>
        <p:blipFill>
          <a:blip r:embed="rId5"/>
          <a:stretch/>
        </p:blipFill>
        <p:spPr>
          <a:xfrm>
            <a:off x="500040" y="2928960"/>
            <a:ext cx="828720" cy="844560"/>
          </a:xfrm>
          <a:prstGeom prst="rect">
            <a:avLst/>
          </a:prstGeom>
          <a:ln w="0">
            <a:noFill/>
          </a:ln>
        </p:spPr>
      </p:pic>
      <p:sp>
        <p:nvSpPr>
          <p:cNvPr id="618" name="Straight Connector 13"/>
          <p:cNvSpPr/>
          <p:nvPr/>
        </p:nvSpPr>
        <p:spPr>
          <a:xfrm>
            <a:off x="4139640" y="1050840"/>
            <a:ext cx="74520" cy="173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traight Connector 14"/>
          <p:cNvSpPr/>
          <p:nvPr/>
        </p:nvSpPr>
        <p:spPr>
          <a:xfrm>
            <a:off x="4286160" y="3643200"/>
            <a:ext cx="74880" cy="173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traight Connector 15"/>
          <p:cNvSpPr/>
          <p:nvPr/>
        </p:nvSpPr>
        <p:spPr>
          <a:xfrm flipH="1">
            <a:off x="5003280" y="3428280"/>
            <a:ext cx="2426040" cy="2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traight Connector 17"/>
          <p:cNvSpPr/>
          <p:nvPr/>
        </p:nvSpPr>
        <p:spPr>
          <a:xfrm flipH="1">
            <a:off x="1500120" y="3428280"/>
            <a:ext cx="2425680" cy="2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18"/>
          <p:cNvSpPr/>
          <p:nvPr/>
        </p:nvSpPr>
        <p:spPr>
          <a:xfrm>
            <a:off x="5572080" y="28584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y are there more divorces now than 50 years a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Empty shell marriag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Gothic"/>
              </a:rPr>
              <a:t>Why are there more divorces now than 50 years ago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Page 81- questions ‘check your understanding’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What are the consequences of an increased number of divorces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8" name="Line 4"/>
          <p:cNvSpPr/>
          <p:nvPr/>
        </p:nvSpPr>
        <p:spPr>
          <a:xfrm>
            <a:off x="2987640" y="162864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5"/>
          <p:cNvSpPr/>
          <p:nvPr/>
        </p:nvSpPr>
        <p:spPr>
          <a:xfrm>
            <a:off x="6084720" y="1628640"/>
            <a:ext cx="0" cy="446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6"/>
          <p:cNvSpPr/>
          <p:nvPr/>
        </p:nvSpPr>
        <p:spPr>
          <a:xfrm>
            <a:off x="755640" y="229716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1" name=""/>
          <p:cNvGraphicFramePr/>
          <p:nvPr/>
        </p:nvGraphicFramePr>
        <p:xfrm>
          <a:off x="457200" y="549360"/>
          <a:ext cx="8229600" cy="3529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hey may  have the best of both worlds as they are now attached to two families and two sets of birthday pres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More remarriages: divorced men are more likely to remarry that divorced women –perhaps they have more to gain from being married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More cohabiting relationships: 34% of divorced men and 24% of divorced women are cohabi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n increase in lone parent families or shared parent famil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Keeping in contact with the parent they are not living wi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More decisions about how to divide property and possess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djusting to a new set of relationships especially in a reconstituted fami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n increase in the number of reconstituted families. Most children stay with their mother if she remarr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hildren living with one parent by keeping in regular contact with the oth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inancially: usually having to manage with less money coming into the hom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motionally: either a change for the better or a stressful change of circumsta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aving to agree on who will care for children and where they will l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2" name="Text Box 126"/>
          <p:cNvSpPr/>
          <p:nvPr/>
        </p:nvSpPr>
        <p:spPr>
          <a:xfrm>
            <a:off x="684360" y="4365720"/>
            <a:ext cx="77752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ou need to have three columns drawn out on your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equences for husbands and w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Consequences for the family i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Consequences for children specif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Conjugal Rol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How far have conjugal roles really changed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In the 1970s, the sociologist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Ann Oakley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claimed that families were becoming more SYMMETRICA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Negative views of the family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Marxists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Feminists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1. Statistics/fact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2. Why do males commit domestic abuse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3. Why do victims return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4. Why is it rarely reported to police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Children  in famili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4" name=""/>
          <p:cNvGraphicFramePr/>
          <p:nvPr/>
        </p:nvGraphicFramePr>
        <p:xfrm>
          <a:off x="714240" y="571680"/>
          <a:ext cx="7429680" cy="5429160"/>
        </p:xfrm>
        <a:graphic>
          <a:graphicData uri="http://schemas.openxmlformats.org/drawingml/2006/table">
            <a:tbl>
              <a:tblPr/>
              <a:tblGrid>
                <a:gridCol w="2476800"/>
                <a:gridCol w="2476440"/>
                <a:gridCol w="2476440"/>
              </a:tblGrid>
              <a:tr h="677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79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Old people in famili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46" name="Picture 2" descr=""/>
          <p:cNvPicPr/>
          <p:nvPr/>
        </p:nvPicPr>
        <p:blipFill>
          <a:blip r:embed="rId1"/>
          <a:srcRect l="10936" t="27781" r="68944" b="5925"/>
          <a:stretch/>
        </p:blipFill>
        <p:spPr>
          <a:xfrm>
            <a:off x="2214720" y="563400"/>
            <a:ext cx="2857320" cy="529452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5" descr="http://www.victoriana.com/animate/ladyz.gif"/>
          <p:cNvPicPr/>
          <p:nvPr/>
        </p:nvPicPr>
        <p:blipFill>
          <a:blip r:embed="rId2"/>
          <a:stretch/>
        </p:blipFill>
        <p:spPr>
          <a:xfrm>
            <a:off x="6215040" y="2714760"/>
            <a:ext cx="1476360" cy="219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2" descr="http://upload.wikimedia.org/wikipedia/commons/thumb/e/e5/1856crnl.gif/250px-1856crnl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28880" y="1120680"/>
            <a:ext cx="5157720" cy="495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" descr="Deformed by Corset - Vintage Book Page Art Print"/>
          <p:cNvPicPr/>
          <p:nvPr/>
        </p:nvPicPr>
        <p:blipFill>
          <a:blip r:embed="rId2"/>
          <a:stretch/>
        </p:blipFill>
        <p:spPr>
          <a:xfrm>
            <a:off x="1857240" y="343080"/>
            <a:ext cx="5429520" cy="651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Alternatives to the family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Gothic"/>
              </a:rPr>
              <a:t>Changes made by the Coalition governmen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entury Gothic"/>
              </a:rPr>
              <a:t>Communal Living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Advantages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Social research and famili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Functions of the family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Functions of the famil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The Nuclear Family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Traditional conjugal rol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70" name="Picture 4" descr="j0431615"/>
          <p:cNvPicPr/>
          <p:nvPr/>
        </p:nvPicPr>
        <p:blipFill>
          <a:blip r:embed="rId1"/>
          <a:stretch/>
        </p:blipFill>
        <p:spPr>
          <a:xfrm>
            <a:off x="3657600" y="294804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571" name="Line 7"/>
          <p:cNvSpPr/>
          <p:nvPr/>
        </p:nvSpPr>
        <p:spPr>
          <a:xfrm flipV="1">
            <a:off x="5364000" y="2852280"/>
            <a:ext cx="1008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8"/>
          <p:cNvSpPr/>
          <p:nvPr/>
        </p:nvSpPr>
        <p:spPr>
          <a:xfrm flipH="1">
            <a:off x="2410920" y="4581360"/>
            <a:ext cx="129708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9"/>
          <p:cNvSpPr/>
          <p:nvPr/>
        </p:nvSpPr>
        <p:spPr>
          <a:xfrm>
            <a:off x="6300720" y="1700280"/>
            <a:ext cx="259236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"/>
          <p:cNvSpPr/>
          <p:nvPr/>
        </p:nvSpPr>
        <p:spPr>
          <a:xfrm>
            <a:off x="395280" y="4941720"/>
            <a:ext cx="2016000" cy="13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4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473800" cy="619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Gothic"/>
              </a:rPr>
              <a:t>Is the nuclear family the ‘perfect fit’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Nowadays, many of us will move away from our parents for jobs and education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We are also less likely to live with our families when become elderly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So FUNCTIONALIST SOCIOLOGISTS believe that the nuclear family is the perfect fit for our modern, industrial society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So what benefits does the nuclear family offer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8:37:40Z</dcterms:created>
  <dc:creator>Sociology Staff</dc:creator>
  <dc:description/>
  <dc:language>en-US</dc:language>
  <cp:lastModifiedBy>Sociology</cp:lastModifiedBy>
  <dcterms:modified xsi:type="dcterms:W3CDTF">2020-03-17T15:44:55Z</dcterms:modified>
  <cp:revision>99</cp:revision>
  <dc:subject/>
  <dc:title>The Nuclear Family</dc:title>
</cp:coreProperties>
</file>